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-360" y="-6550200"/>
            <a:ext cx="360" cy="144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38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680" y="4680"/>
            <a:ext cx="180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8B13-732E-42C5-AB8F-8F738663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1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26E6-CF24-4853-BB89-39395E72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9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600200"/>
            <a:ext cx="4009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09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63600"/>
            <a:ext cx="4009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904-4FCE-4C86-BC00-C77FEDE1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5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600200"/>
            <a:ext cx="2645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600200"/>
            <a:ext cx="2645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5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63600"/>
            <a:ext cx="2645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63600"/>
            <a:ext cx="2645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3214-E79E-46A6-AD6C-67711FE2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7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9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501A-9AB3-4C01-85D9-6923C3A7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7A9B-B336-4575-806A-FA432F3F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96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600200"/>
            <a:ext cx="40096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35A2-A89D-40CA-BD05-431D6515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7BCC-4638-40E8-A87F-E50746AF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70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9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216D-B496-4C1E-A439-C2A6BFF4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9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600200"/>
            <a:ext cx="40096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09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520-AF57-407B-9EA1-72CAEB79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96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600200"/>
            <a:ext cx="4009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63600"/>
            <a:ext cx="4009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9233-BEC8-4FCF-9D1C-6FD0E65B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9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600200"/>
            <a:ext cx="4009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1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BFFF-AA1B-4E7E-803F-3D3A9C5E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7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69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69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9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9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9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9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9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07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82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11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F0E98-41DB-44AE-8E51-6B9917E528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6pwllVQPVA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youtube.com/watch?v=R6pwlIVQPVA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L2Vd2sZyn8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609480" y="1042920"/>
            <a:ext cx="82170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24480" y="228240"/>
            <a:ext cx="2362320" cy="14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rdasi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ccin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28600" y="281160"/>
            <a:ext cx="5079960" cy="4063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5343480" y="3860640"/>
            <a:ext cx="3800520" cy="2997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457200" y="5072040"/>
            <a:ext cx="41608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rvical Canc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5410080" cy="432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1104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st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5410080" y="4419720"/>
            <a:ext cx="3478320" cy="2438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3808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idence:  1-8 women will get in their lifetime, 40,000 deaths a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use:  Genetics (usually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eatment:  Chemo/Radiation Therapy, Drug Treatment, Remo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ion: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east Self Ex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Should do monthly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week after menstrual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MM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334120" y="457200"/>
            <a:ext cx="3589200" cy="533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5079960" cy="40640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533520" y="4724280"/>
            <a:ext cx="3657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ticular To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762120" y="6019920"/>
            <a:ext cx="335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914400" y="617220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066680" y="632448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666880" y="55627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scended Test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791320" y="4572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28600"/>
            <a:ext cx="8051760" cy="5715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3505320" y="5943600"/>
            <a:ext cx="56386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uinal Hern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youtube.com/watch?v=R6pwlIVQPV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idym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200400" cy="458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33019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09520"/>
            <a:ext cx="888516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askerville"/>
              </a:rPr>
              <a:t>Testicular Canc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0160" y="1388880"/>
            <a:ext cx="4752720" cy="50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askerville"/>
              </a:rPr>
              <a:t>Common ages:  </a:t>
            </a:r>
            <a:r>
              <a:rPr b="0" lang="en-GB" sz="3200" spc="-1" strike="noStrike">
                <a:solidFill>
                  <a:srgbClr val="000000"/>
                </a:solidFill>
                <a:latin typeface="Baskerville"/>
              </a:rPr>
              <a:t>14-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askerville"/>
              </a:rPr>
              <a:t>Signs</a:t>
            </a:r>
            <a:r>
              <a:rPr b="0" lang="en-GB" sz="3200" spc="-1" strike="noStrike">
                <a:solidFill>
                  <a:srgbClr val="000000"/>
                </a:solidFill>
                <a:latin typeface="Baskerville"/>
              </a:rPr>
              <a:t>:  painless lum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skerville"/>
              </a:rPr>
              <a:t>abnormal swe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skerville"/>
              </a:rPr>
              <a:t>undescended tes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askerville"/>
              </a:rPr>
              <a:t>Treatment</a:t>
            </a:r>
            <a:r>
              <a:rPr b="0" lang="en-GB" sz="3200" spc="-1" strike="noStrike">
                <a:solidFill>
                  <a:srgbClr val="000000"/>
                </a:solidFill>
                <a:latin typeface="Baskerville"/>
              </a:rPr>
              <a:t>:  Surgery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skerville"/>
              </a:rPr>
              <a:t>Removal/Chemo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askerville"/>
              </a:rPr>
              <a:t>Prevention:  </a:t>
            </a:r>
            <a:r>
              <a:rPr b="0" lang="en-GB" sz="3200" spc="-1" strike="noStrike">
                <a:solidFill>
                  <a:srgbClr val="000000"/>
                </a:solidFill>
                <a:latin typeface="Baskerville"/>
              </a:rPr>
              <a:t>Month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Baskerville"/>
                <a:hlinkClick r:id="rId1"/>
              </a:rPr>
              <a:t>testicular self ex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4753080" y="1905120"/>
            <a:ext cx="4390920" cy="42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4876920" cy="4952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5486400" y="714240"/>
            <a:ext cx="3629160" cy="36291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457200" y="571176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oxic Shock Syndr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35560" cy="3889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1352520" y="4800600"/>
            <a:ext cx="2533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metri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4521240" cy="442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838440" y="4876920"/>
            <a:ext cx="6172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cystic Ovaria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tent Placeholder 3" descr=""/>
          <p:cNvPicPr/>
          <p:nvPr/>
        </p:nvPicPr>
        <p:blipFill>
          <a:blip r:embed="rId1"/>
          <a:srcRect l="-22867" t="0" r="-22867" b="0"/>
          <a:stretch/>
        </p:blipFill>
        <p:spPr>
          <a:xfrm>
            <a:off x="-1295280" y="0"/>
            <a:ext cx="7334280" cy="4038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4275000" y="3352680"/>
            <a:ext cx="4869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1:12:37Z</dcterms:created>
  <dc:creator/>
  <dc:description/>
  <dc:language>en-US</dc:language>
  <cp:lastModifiedBy>Teacher</cp:lastModifiedBy>
  <dcterms:modified xsi:type="dcterms:W3CDTF">2011-11-03T19:41:44Z</dcterms:modified>
  <cp:revision>21</cp:revision>
  <dc:subject/>
  <dc:title>Slide 1</dc:title>
</cp:coreProperties>
</file>